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08C-A1C3-4DBF-BE24-B8A1FDCE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E74-C4E5-4A98-A9EB-8CDA894D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61A-256A-4DCF-9EB1-DE06B794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070-2F8E-492C-A561-37957219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9D5-EC32-4F79-8D30-634A58B6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843-5C14-4291-A346-EA37E21D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AAD-0A05-418A-B62D-A2ADD9F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976-313B-4AB9-BE98-1A59C94F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925-E8BE-4F97-A67D-E33C612B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E21-F014-4248-826B-6874E07A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D38-193D-47AA-A434-015461FC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35B-BB78-4023-BC49-11A5AE3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F9E0-E340-44B6-9E9E-634CBFAD4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uro.who.int/document/E79876.pdf" TargetMode="External"/><Relationship Id="rId3" Type="http://schemas.openxmlformats.org/officeDocument/2006/relationships/hyperlink" Target="http://www.euro.who.int/document/E79876.pdf" TargetMode="External"/><Relationship Id="rId4" Type="http://schemas.openxmlformats.org/officeDocument/2006/relationships/hyperlink" Target="http://www.euro.who.int/document/E79876.pdf" TargetMode="External"/><Relationship Id="rId5" Type="http://schemas.openxmlformats.org/officeDocument/2006/relationships/hyperlink" Target="http://www.euro.who.int/document/E79876.pdf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uro.who.int/document/E79876.pdf" TargetMode="External"/><Relationship Id="rId3" Type="http://schemas.openxmlformats.org/officeDocument/2006/relationships/hyperlink" Target="http://www.euro.who.int/document/E79876.pdf" TargetMode="External"/><Relationship Id="rId4" Type="http://schemas.openxmlformats.org/officeDocument/2006/relationships/hyperlink" Target="http://www.euro.who.int/document/E79876.pdf" TargetMode="External"/><Relationship Id="rId5" Type="http://schemas.openxmlformats.org/officeDocument/2006/relationships/hyperlink" Target="http://www.euro.who.int/document/E79876.pdf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uro.who.int/document/E79876.pdf" TargetMode="External"/><Relationship Id="rId3" Type="http://schemas.openxmlformats.org/officeDocument/2006/relationships/hyperlink" Target="http://www.euro.who.int/document/E79876.pdf" TargetMode="External"/><Relationship Id="rId4" Type="http://schemas.openxmlformats.org/officeDocument/2006/relationships/hyperlink" Target="http://www.euro.who.int/document/E79876.pdf" TargetMode="External"/><Relationship Id="rId5" Type="http://schemas.openxmlformats.org/officeDocument/2006/relationships/hyperlink" Target="http://www.euro.who.int/document/E79876.pdf" TargetMode="Externa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uro.who.int/document/E79876.pdf" TargetMode="External"/><Relationship Id="rId3" Type="http://schemas.openxmlformats.org/officeDocument/2006/relationships/hyperlink" Target="http://www.euro.who.int/document/E79876.pdf" TargetMode="External"/><Relationship Id="rId4" Type="http://schemas.openxmlformats.org/officeDocument/2006/relationships/hyperlink" Target="http://www.euro.who.int/document/E79876.pdf" TargetMode="External"/><Relationship Id="rId5" Type="http://schemas.openxmlformats.org/officeDocument/2006/relationships/hyperlink" Target="http://www.euro.who.int/document/E79876.pdf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77360" cy="520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a crisi demografica dell’ 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i per malattie cardiovas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rcRect l="4899" t="5259" r="9808" b="2638"/>
          <a:stretch/>
        </p:blipFill>
        <p:spPr>
          <a:xfrm>
            <a:off x="914400" y="838080"/>
            <a:ext cx="6629400" cy="510552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380880" y="6019920"/>
            <a:ext cx="792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Atlante della Salute in Europa, World Health Organization, 2003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uro.who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t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document/E79876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1"/>
          <a:srcRect l="7377" t="10136" r="6866" b="2530"/>
          <a:stretch/>
        </p:blipFill>
        <p:spPr>
          <a:xfrm>
            <a:off x="533520" y="533520"/>
            <a:ext cx="7543800" cy="55893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228600" y="617220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Atlante della Salute in Europa, World Health Organization, 2003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uro.who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t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document/E79876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i per cause  esterne di lesioni o avvele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rti per incidenti d’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rcRect l="0" t="5797" r="0" b="4348"/>
          <a:stretch/>
        </p:blipFill>
        <p:spPr>
          <a:xfrm>
            <a:off x="914400" y="99072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228600" y="617220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Atlante della Salute in Europa, World Health Organization, 2003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uro.who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t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document/E79876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427560" y="571500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100.000 abit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i per suic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rcRect l="0" t="7689" r="0" b="6155"/>
          <a:stretch/>
        </p:blipFill>
        <p:spPr>
          <a:xfrm>
            <a:off x="762120" y="990720"/>
            <a:ext cx="7162560" cy="472428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228600" y="6172200"/>
            <a:ext cx="792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e: Atlante della Salute in Europa, World Health Organization, 2003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uro.who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nt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document/E79876.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427560" y="571500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100.000 abit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so di incremento naturale: la Russia Europ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984240"/>
          <a:ext cx="87310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4240"/>
                    <a:ext cx="87310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429000" y="1371600"/>
            <a:ext cx="0" cy="4876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35480" y="137160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28600" y="914400"/>
            <a:ext cx="8381520" cy="5394960"/>
            <a:chOff x="228600" y="914400"/>
            <a:chExt cx="8381520" cy="5394960"/>
          </a:xfrm>
        </p:grpSpPr>
        <p:sp>
          <p:nvSpPr>
            <p:cNvPr id="49" name=""/>
            <p:cNvSpPr/>
            <p:nvPr/>
          </p:nvSpPr>
          <p:spPr>
            <a:xfrm>
              <a:off x="1403640" y="1010880"/>
              <a:ext cx="7204680" cy="46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03640" y="564120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640" y="506088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03640" y="3907800"/>
              <a:ext cx="72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03640" y="332568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03640" y="274392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03640" y="217476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03640" y="159264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03640" y="1010880"/>
              <a:ext cx="720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03640" y="1010880"/>
              <a:ext cx="7204680" cy="4630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03640" y="1010880"/>
              <a:ext cx="1440" cy="46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56840" y="564120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56840" y="506088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56840" y="4489560"/>
              <a:ext cx="46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6840" y="3907800"/>
              <a:ext cx="46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56840" y="332568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56840" y="274392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56840" y="217476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6840" y="159264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6840" y="1010880"/>
              <a:ext cx="4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3640" y="4489560"/>
              <a:ext cx="72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40364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58688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7694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9530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14848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3310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5146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69820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8803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0643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2482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43152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6259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8098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9916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17564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35924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54284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7250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089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1030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2866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4705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65236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8363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0202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2038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38604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58188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76368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94764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13124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31520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49700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6809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8649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05860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24256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426520" y="4489560"/>
              <a:ext cx="144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8608320" y="4489560"/>
              <a:ext cx="1800" cy="3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7960" y="1592640"/>
              <a:ext cx="6839280" cy="1478520"/>
            </a:xfrm>
            <a:custGeom>
              <a:avLst/>
              <a:gdLst/>
              <a:ahLst/>
              <a:rect l="l" t="t" r="r" b="b"/>
              <a:pathLst>
                <a:path w="597" h="122">
                  <a:moveTo>
                    <a:pt x="0" y="48"/>
                  </a:moveTo>
                  <a:lnTo>
                    <a:pt x="16" y="52"/>
                  </a:lnTo>
                  <a:lnTo>
                    <a:pt x="32" y="62"/>
                  </a:lnTo>
                  <a:lnTo>
                    <a:pt x="49" y="65"/>
                  </a:lnTo>
                  <a:lnTo>
                    <a:pt x="65" y="62"/>
                  </a:lnTo>
                  <a:lnTo>
                    <a:pt x="81" y="57"/>
                  </a:lnTo>
                  <a:lnTo>
                    <a:pt x="97" y="50"/>
                  </a:lnTo>
                  <a:lnTo>
                    <a:pt x="113" y="46"/>
                  </a:lnTo>
                  <a:lnTo>
                    <a:pt x="129" y="48"/>
                  </a:lnTo>
                  <a:lnTo>
                    <a:pt x="145" y="40"/>
                  </a:lnTo>
                  <a:lnTo>
                    <a:pt x="161" y="37"/>
                  </a:lnTo>
                  <a:lnTo>
                    <a:pt x="178" y="33"/>
                  </a:lnTo>
                  <a:lnTo>
                    <a:pt x="194" y="33"/>
                  </a:lnTo>
                  <a:lnTo>
                    <a:pt x="210" y="30"/>
                  </a:lnTo>
                  <a:lnTo>
                    <a:pt x="226" y="30"/>
                  </a:lnTo>
                  <a:lnTo>
                    <a:pt x="242" y="28"/>
                  </a:lnTo>
                  <a:lnTo>
                    <a:pt x="258" y="25"/>
                  </a:lnTo>
                  <a:lnTo>
                    <a:pt x="274" y="16"/>
                  </a:lnTo>
                  <a:lnTo>
                    <a:pt x="291" y="2"/>
                  </a:lnTo>
                  <a:lnTo>
                    <a:pt x="307" y="8"/>
                  </a:lnTo>
                  <a:lnTo>
                    <a:pt x="323" y="12"/>
                  </a:lnTo>
                  <a:lnTo>
                    <a:pt x="339" y="1"/>
                  </a:lnTo>
                  <a:lnTo>
                    <a:pt x="355" y="0"/>
                  </a:lnTo>
                  <a:lnTo>
                    <a:pt x="371" y="14"/>
                  </a:lnTo>
                  <a:lnTo>
                    <a:pt x="387" y="32"/>
                  </a:lnTo>
                  <a:lnTo>
                    <a:pt x="403" y="49"/>
                  </a:lnTo>
                  <a:lnTo>
                    <a:pt x="420" y="67"/>
                  </a:lnTo>
                  <a:lnTo>
                    <a:pt x="436" y="87"/>
                  </a:lnTo>
                  <a:lnTo>
                    <a:pt x="452" y="107"/>
                  </a:lnTo>
                  <a:lnTo>
                    <a:pt x="468" y="104"/>
                  </a:lnTo>
                  <a:lnTo>
                    <a:pt x="484" y="108"/>
                  </a:lnTo>
                  <a:lnTo>
                    <a:pt x="500" y="114"/>
                  </a:lnTo>
                  <a:lnTo>
                    <a:pt x="516" y="118"/>
                  </a:lnTo>
                  <a:lnTo>
                    <a:pt x="532" y="116"/>
                  </a:lnTo>
                  <a:lnTo>
                    <a:pt x="549" y="122"/>
                  </a:lnTo>
                  <a:lnTo>
                    <a:pt x="565" y="118"/>
                  </a:lnTo>
                  <a:lnTo>
                    <a:pt x="581" y="113"/>
                  </a:lnTo>
                  <a:lnTo>
                    <a:pt x="597" y="105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7960" y="1787040"/>
              <a:ext cx="6839280" cy="1587600"/>
            </a:xfrm>
            <a:custGeom>
              <a:avLst/>
              <a:gdLst/>
              <a:ahLst/>
              <a:rect l="l" t="t" r="r" b="b"/>
              <a:pathLst>
                <a:path w="597" h="131">
                  <a:moveTo>
                    <a:pt x="0" y="131"/>
                  </a:moveTo>
                  <a:lnTo>
                    <a:pt x="16" y="129"/>
                  </a:lnTo>
                  <a:lnTo>
                    <a:pt x="32" y="125"/>
                  </a:lnTo>
                  <a:lnTo>
                    <a:pt x="49" y="123"/>
                  </a:lnTo>
                  <a:lnTo>
                    <a:pt x="65" y="117"/>
                  </a:lnTo>
                  <a:lnTo>
                    <a:pt x="81" y="114"/>
                  </a:lnTo>
                  <a:lnTo>
                    <a:pt x="97" y="113"/>
                  </a:lnTo>
                  <a:lnTo>
                    <a:pt x="113" y="110"/>
                  </a:lnTo>
                  <a:lnTo>
                    <a:pt x="129" y="107"/>
                  </a:lnTo>
                  <a:lnTo>
                    <a:pt x="145" y="106"/>
                  </a:lnTo>
                  <a:lnTo>
                    <a:pt x="161" y="97"/>
                  </a:lnTo>
                  <a:lnTo>
                    <a:pt x="178" y="93"/>
                  </a:lnTo>
                  <a:lnTo>
                    <a:pt x="194" y="90"/>
                  </a:lnTo>
                  <a:lnTo>
                    <a:pt x="210" y="87"/>
                  </a:lnTo>
                  <a:lnTo>
                    <a:pt x="226" y="80"/>
                  </a:lnTo>
                  <a:lnTo>
                    <a:pt x="242" y="77"/>
                  </a:lnTo>
                  <a:lnTo>
                    <a:pt x="258" y="77"/>
                  </a:lnTo>
                  <a:lnTo>
                    <a:pt x="274" y="79"/>
                  </a:lnTo>
                  <a:lnTo>
                    <a:pt x="291" y="73"/>
                  </a:lnTo>
                  <a:lnTo>
                    <a:pt x="307" y="65"/>
                  </a:lnTo>
                  <a:lnTo>
                    <a:pt x="323" y="67"/>
                  </a:lnTo>
                  <a:lnTo>
                    <a:pt x="339" y="79"/>
                  </a:lnTo>
                  <a:lnTo>
                    <a:pt x="355" y="76"/>
                  </a:lnTo>
                  <a:lnTo>
                    <a:pt x="371" y="73"/>
                  </a:lnTo>
                  <a:lnTo>
                    <a:pt x="387" y="71"/>
                  </a:lnTo>
                  <a:lnTo>
                    <a:pt x="403" y="64"/>
                  </a:lnTo>
                  <a:lnTo>
                    <a:pt x="420" y="61"/>
                  </a:lnTo>
                  <a:lnTo>
                    <a:pt x="436" y="50"/>
                  </a:lnTo>
                  <a:lnTo>
                    <a:pt x="452" y="19"/>
                  </a:lnTo>
                  <a:lnTo>
                    <a:pt x="468" y="3"/>
                  </a:lnTo>
                  <a:lnTo>
                    <a:pt x="484" y="12"/>
                  </a:lnTo>
                  <a:lnTo>
                    <a:pt x="500" y="24"/>
                  </a:lnTo>
                  <a:lnTo>
                    <a:pt x="516" y="30"/>
                  </a:lnTo>
                  <a:lnTo>
                    <a:pt x="532" y="33"/>
                  </a:lnTo>
                  <a:lnTo>
                    <a:pt x="549" y="18"/>
                  </a:lnTo>
                  <a:lnTo>
                    <a:pt x="565" y="10"/>
                  </a:lnTo>
                  <a:lnTo>
                    <a:pt x="581" y="7"/>
                  </a:lnTo>
                  <a:lnTo>
                    <a:pt x="597" y="0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7960" y="3289320"/>
              <a:ext cx="6839280" cy="2304000"/>
            </a:xfrm>
            <a:custGeom>
              <a:avLst/>
              <a:gdLst/>
              <a:ahLst/>
              <a:rect l="l" t="t" r="r" b="b"/>
              <a:pathLst>
                <a:path w="597" h="190">
                  <a:moveTo>
                    <a:pt x="0" y="0"/>
                  </a:moveTo>
                  <a:lnTo>
                    <a:pt x="16" y="5"/>
                  </a:lnTo>
                  <a:lnTo>
                    <a:pt x="32" y="19"/>
                  </a:lnTo>
                  <a:lnTo>
                    <a:pt x="49" y="24"/>
                  </a:lnTo>
                  <a:lnTo>
                    <a:pt x="65" y="28"/>
                  </a:lnTo>
                  <a:lnTo>
                    <a:pt x="81" y="25"/>
                  </a:lnTo>
                  <a:lnTo>
                    <a:pt x="97" y="19"/>
                  </a:lnTo>
                  <a:lnTo>
                    <a:pt x="113" y="19"/>
                  </a:lnTo>
                  <a:lnTo>
                    <a:pt x="129" y="24"/>
                  </a:lnTo>
                  <a:lnTo>
                    <a:pt x="145" y="17"/>
                  </a:lnTo>
                  <a:lnTo>
                    <a:pt x="161" y="22"/>
                  </a:lnTo>
                  <a:lnTo>
                    <a:pt x="178" y="23"/>
                  </a:lnTo>
                  <a:lnTo>
                    <a:pt x="194" y="25"/>
                  </a:lnTo>
                  <a:lnTo>
                    <a:pt x="210" y="26"/>
                  </a:lnTo>
                  <a:lnTo>
                    <a:pt x="226" y="33"/>
                  </a:lnTo>
                  <a:lnTo>
                    <a:pt x="242" y="34"/>
                  </a:lnTo>
                  <a:lnTo>
                    <a:pt x="258" y="30"/>
                  </a:lnTo>
                  <a:lnTo>
                    <a:pt x="274" y="20"/>
                  </a:lnTo>
                  <a:lnTo>
                    <a:pt x="291" y="11"/>
                  </a:lnTo>
                  <a:lnTo>
                    <a:pt x="307" y="26"/>
                  </a:lnTo>
                  <a:lnTo>
                    <a:pt x="323" y="27"/>
                  </a:lnTo>
                  <a:lnTo>
                    <a:pt x="339" y="4"/>
                  </a:lnTo>
                  <a:lnTo>
                    <a:pt x="355" y="6"/>
                  </a:lnTo>
                  <a:lnTo>
                    <a:pt x="371" y="24"/>
                  </a:lnTo>
                  <a:lnTo>
                    <a:pt x="387" y="43"/>
                  </a:lnTo>
                  <a:lnTo>
                    <a:pt x="403" y="67"/>
                  </a:lnTo>
                  <a:lnTo>
                    <a:pt x="420" y="89"/>
                  </a:lnTo>
                  <a:lnTo>
                    <a:pt x="436" y="119"/>
                  </a:lnTo>
                  <a:lnTo>
                    <a:pt x="452" y="170"/>
                  </a:lnTo>
                  <a:lnTo>
                    <a:pt x="468" y="184"/>
                  </a:lnTo>
                  <a:lnTo>
                    <a:pt x="484" y="179"/>
                  </a:lnTo>
                  <a:lnTo>
                    <a:pt x="500" y="173"/>
                  </a:lnTo>
                  <a:lnTo>
                    <a:pt x="516" y="171"/>
                  </a:lnTo>
                  <a:lnTo>
                    <a:pt x="532" y="166"/>
                  </a:lnTo>
                  <a:lnTo>
                    <a:pt x="549" y="187"/>
                  </a:lnTo>
                  <a:lnTo>
                    <a:pt x="565" y="190"/>
                  </a:lnTo>
                  <a:lnTo>
                    <a:pt x="581" y="189"/>
                  </a:lnTo>
                  <a:lnTo>
                    <a:pt x="597" y="188"/>
                  </a:lnTo>
                </a:path>
              </a:pathLst>
            </a:custGeom>
            <a:noFill/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60160" y="12290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43760" y="21384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7720" y="21873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11680" y="23072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5360" y="23436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89320" y="23072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71120" y="224712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5080" y="21618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9040" y="21142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0840" y="2138400"/>
              <a:ext cx="70200" cy="72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41" y="20"/>
                  </a:lnTo>
                  <a:lnTo>
                    <a:pt x="21" y="40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04800" y="20419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88400" y="20055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82440" y="19566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66400" y="19566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50000" y="19198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32160" y="191988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5760" y="189612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99720" y="18597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3680" y="17506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77360" y="158148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1320" y="16545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43120" y="170172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7080" y="156888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1040" y="155592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94640" y="17272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76800" y="1945440"/>
              <a:ext cx="68760" cy="70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20" y="0"/>
                  </a:moveTo>
                  <a:lnTo>
                    <a:pt x="40" y="19"/>
                  </a:lnTo>
                  <a:lnTo>
                    <a:pt x="20" y="39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60400" y="215064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54800" y="23691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38400" y="261108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22000" y="28530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05960" y="28162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87760" y="286560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71720" y="293832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55680" y="298764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37840" y="29620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33320" y="30348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5480" y="29876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99440" y="29257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83040" y="282924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0160" y="342396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43760" y="333864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7720" y="331488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11680" y="326592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5360" y="324216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89320" y="316944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1120" y="313308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55080" y="312048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39040" y="308412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0840" y="3047400"/>
              <a:ext cx="702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04800" y="303480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8400" y="292572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2440" y="287820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66400" y="284184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50000" y="280548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2160" y="27201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15760" y="268344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99720" y="268344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83680" y="270756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7360" y="263448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1320" y="253836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43120" y="25617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27080" y="27075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1040" y="267120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94640" y="263448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76800" y="261108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0400" y="25257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54800" y="248940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38400" y="235656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22000" y="198000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05960" y="178704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87760" y="189612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71720" y="2041920"/>
              <a:ext cx="6876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55680" y="211428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37840" y="2150640"/>
              <a:ext cx="6840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33320" y="196884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15480" y="187272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99440" y="183636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83040" y="1750680"/>
              <a:ext cx="68760" cy="727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60160" y="224712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43760" y="325296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7720" y="33148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11680" y="34840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5360" y="354384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9320" y="359280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71120" y="355680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55080" y="34840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9040" y="34840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20840" y="3543840"/>
              <a:ext cx="70200" cy="72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21" y="0"/>
                  </a:moveTo>
                  <a:lnTo>
                    <a:pt x="41" y="40"/>
                  </a:lnTo>
                  <a:lnTo>
                    <a:pt x="0" y="4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04800" y="346032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88400" y="35204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82440" y="353304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66400" y="355680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50000" y="35694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2160" y="365328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15760" y="366588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99720" y="36169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3680" y="349704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77360" y="33876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1320" y="356940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3120" y="358020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7080" y="330228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1040" y="332568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94640" y="354384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76800" y="377496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60400" y="406584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54800" y="43333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38400" y="469692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22000" y="531360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05960" y="548424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87760" y="5422680"/>
              <a:ext cx="6876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71720" y="534996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5680" y="532656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37840" y="5266080"/>
              <a:ext cx="68400" cy="72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3320" y="552096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15480" y="55573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99440" y="55447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83040" y="5531760"/>
              <a:ext cx="6876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1640" y="554472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7200" y="4962600"/>
              <a:ext cx="49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09600" y="4393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1480" y="38109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8800" y="32292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8800" y="26470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,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8800" y="207828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00" y="149616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,5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800" y="91440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,000,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900000">
              <a:off x="1169280" y="5774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900000">
              <a:off x="135252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900000">
              <a:off x="2280960" y="577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900000">
              <a:off x="319572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900000">
              <a:off x="412308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900000">
              <a:off x="505260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900000">
              <a:off x="5970240" y="577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900000">
              <a:off x="6897600" y="5777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900000">
              <a:off x="7822800" y="57747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900000">
              <a:off x="8188560" y="57751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49560" y="6126480"/>
              <a:ext cx="35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-71640" y="3210840"/>
              <a:ext cx="76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polazi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91080" y="3533040"/>
              <a:ext cx="1231560" cy="1356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59480" y="3665880"/>
              <a:ext cx="30924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75040" y="36295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20"/>
                  </a:lnTo>
                  <a:lnTo>
                    <a:pt x="20" y="40"/>
                  </a:lnTo>
                  <a:lnTo>
                    <a:pt x="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3280" y="355680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sci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59480" y="4102200"/>
              <a:ext cx="309240" cy="144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75040" y="4065840"/>
              <a:ext cx="68400" cy="7236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701480" y="3993120"/>
              <a:ext cx="31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rt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59480" y="4551480"/>
              <a:ext cx="309240" cy="1800"/>
            </a:xfrm>
            <a:prstGeom prst="line">
              <a:avLst/>
            </a:prstGeom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75040" y="4515120"/>
              <a:ext cx="68400" cy="72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40" y="40"/>
                  </a:lnTo>
                  <a:lnTo>
                    <a:pt x="0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00400" y="44424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creme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02560" y="4635000"/>
              <a:ext cx="50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atura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ussia: Nascite, morti e incremento naturale nella popolazione: 1960, 1965-2002 (valori assolut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990720"/>
            <a:ext cx="0" cy="5257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83600" y="114300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ti e morti: Russia e Europa del N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844560" y="1608120"/>
          <a:ext cx="775476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08120"/>
                    <a:ext cx="775476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257800" y="1371600"/>
            <a:ext cx="0" cy="4876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64280" y="137160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l 19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9 aprile - Unione Sovietica: La Georg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 luglio - Viene sciolto ufficialmente il Patto di Varsav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9 agosto - Mosca/Unione Sovietica: tentativo di colpo di st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 agosto - Unione Sovietica: L'Eston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1 agosto - Unione Sovietica: La Letton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5 agosto - Unione Sovietica: La Bieloruss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 agosto - Unione Sovietica: L'Azerbaijan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1 settembre - Unione Sovietica: L'Armenia dichiara l' indipen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1 dicembre - Nasce a Maastricht l'Unione Europe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5 dicembre - Unione Sovietica: Mikhail Gorbachev rassegna le proprie dimissioni da presidente dell'UR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6 dicembre - Unione Sovietica: Il Soviet Supremo scioglie formalmente l'UR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rtalità standardizzata per età, 1965-2001: Decessi per tutte le cau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80880" y="762120"/>
            <a:ext cx="8475480" cy="5780160"/>
            <a:chOff x="380880" y="762120"/>
            <a:chExt cx="8475480" cy="5780160"/>
          </a:xfrm>
        </p:grpSpPr>
        <p:sp>
          <p:nvSpPr>
            <p:cNvPr id="274" name=""/>
            <p:cNvSpPr/>
            <p:nvPr/>
          </p:nvSpPr>
          <p:spPr>
            <a:xfrm>
              <a:off x="1430280" y="1591560"/>
              <a:ext cx="6102360" cy="409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30280" y="517716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30280" y="466776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30280" y="4156560"/>
              <a:ext cx="610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30280" y="3647520"/>
              <a:ext cx="610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30280" y="3122280"/>
              <a:ext cx="6102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30280" y="261144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30280" y="210240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30280" y="159156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30280" y="1591560"/>
              <a:ext cx="6102360" cy="4096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30280" y="1591560"/>
              <a:ext cx="1440" cy="409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92120" y="5688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92120" y="5424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92120" y="51771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92120" y="49154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2120" y="4667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92120" y="440424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92120" y="41565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92120" y="389484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92120" y="36475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92120" y="3384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92120" y="31222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92120" y="28749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92120" y="26114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92120" y="23641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92120" y="21024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92120" y="18550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92120" y="15915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7720" y="56880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77720" y="51771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77720" y="46677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7720" y="415656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7720" y="364752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77720" y="3122280"/>
              <a:ext cx="5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7720" y="261144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77720" y="210240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77720" y="1591560"/>
              <a:ext cx="5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30280" y="5688000"/>
              <a:ext cx="610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43028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6016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7589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9285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0858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2557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42568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58264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7540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9113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0812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2511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4081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5780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7353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9049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766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2336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4035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5608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73076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8877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576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2290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53863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5562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7132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8831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0530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2100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37992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5372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70860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8785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03548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7205400" y="5687640"/>
              <a:ext cx="180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36272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532640" y="5687640"/>
              <a:ext cx="1440" cy="5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9480" y="1635480"/>
              <a:ext cx="5945400" cy="2331720"/>
            </a:xfrm>
            <a:custGeom>
              <a:avLst/>
              <a:gdLst/>
              <a:ahLst/>
              <a:rect l="l" t="t" r="r" b="b"/>
              <a:pathLst>
                <a:path w="454" h="160">
                  <a:moveTo>
                    <a:pt x="0" y="160"/>
                  </a:moveTo>
                  <a:lnTo>
                    <a:pt x="13" y="158"/>
                  </a:lnTo>
                  <a:lnTo>
                    <a:pt x="25" y="150"/>
                  </a:lnTo>
                  <a:lnTo>
                    <a:pt x="38" y="145"/>
                  </a:lnTo>
                  <a:lnTo>
                    <a:pt x="51" y="126"/>
                  </a:lnTo>
                  <a:lnTo>
                    <a:pt x="63" y="119"/>
                  </a:lnTo>
                  <a:lnTo>
                    <a:pt x="76" y="122"/>
                  </a:lnTo>
                  <a:lnTo>
                    <a:pt x="88" y="120"/>
                  </a:lnTo>
                  <a:lnTo>
                    <a:pt x="101" y="119"/>
                  </a:lnTo>
                  <a:lnTo>
                    <a:pt x="114" y="124"/>
                  </a:lnTo>
                  <a:lnTo>
                    <a:pt x="126" y="109"/>
                  </a:lnTo>
                  <a:lnTo>
                    <a:pt x="139" y="107"/>
                  </a:lnTo>
                  <a:lnTo>
                    <a:pt x="151" y="103"/>
                  </a:lnTo>
                  <a:lnTo>
                    <a:pt x="164" y="103"/>
                  </a:lnTo>
                  <a:lnTo>
                    <a:pt x="177" y="92"/>
                  </a:lnTo>
                  <a:lnTo>
                    <a:pt x="189" y="90"/>
                  </a:lnTo>
                  <a:lnTo>
                    <a:pt x="202" y="91"/>
                  </a:lnTo>
                  <a:lnTo>
                    <a:pt x="214" y="100"/>
                  </a:lnTo>
                  <a:lnTo>
                    <a:pt x="227" y="100"/>
                  </a:lnTo>
                  <a:lnTo>
                    <a:pt x="240" y="88"/>
                  </a:lnTo>
                  <a:lnTo>
                    <a:pt x="252" y="101"/>
                  </a:lnTo>
                  <a:lnTo>
                    <a:pt x="265" y="133"/>
                  </a:lnTo>
                  <a:lnTo>
                    <a:pt x="277" y="132"/>
                  </a:lnTo>
                  <a:lnTo>
                    <a:pt x="290" y="130"/>
                  </a:lnTo>
                  <a:lnTo>
                    <a:pt x="303" y="128"/>
                  </a:lnTo>
                  <a:lnTo>
                    <a:pt x="315" y="128"/>
                  </a:lnTo>
                  <a:lnTo>
                    <a:pt x="328" y="119"/>
                  </a:lnTo>
                  <a:lnTo>
                    <a:pt x="340" y="100"/>
                  </a:lnTo>
                  <a:lnTo>
                    <a:pt x="353" y="35"/>
                  </a:lnTo>
                  <a:lnTo>
                    <a:pt x="366" y="0"/>
                  </a:lnTo>
                  <a:lnTo>
                    <a:pt x="378" y="32"/>
                  </a:lnTo>
                  <a:lnTo>
                    <a:pt x="391" y="58"/>
                  </a:lnTo>
                  <a:lnTo>
                    <a:pt x="403" y="82"/>
                  </a:lnTo>
                  <a:lnTo>
                    <a:pt x="416" y="91"/>
                  </a:lnTo>
                  <a:lnTo>
                    <a:pt x="429" y="65"/>
                  </a:lnTo>
                  <a:lnTo>
                    <a:pt x="441" y="50"/>
                  </a:lnTo>
                  <a:lnTo>
                    <a:pt x="454" y="4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09480" y="4901400"/>
              <a:ext cx="5945400" cy="597240"/>
            </a:xfrm>
            <a:custGeom>
              <a:avLst/>
              <a:gdLst/>
              <a:ahLst/>
              <a:rect l="l" t="t" r="r" b="b"/>
              <a:pathLst>
                <a:path w="454" h="41">
                  <a:moveTo>
                    <a:pt x="0" y="38"/>
                  </a:moveTo>
                  <a:lnTo>
                    <a:pt x="13" y="40"/>
                  </a:lnTo>
                  <a:lnTo>
                    <a:pt x="25" y="37"/>
                  </a:lnTo>
                  <a:lnTo>
                    <a:pt x="38" y="39"/>
                  </a:lnTo>
                  <a:lnTo>
                    <a:pt x="51" y="34"/>
                  </a:lnTo>
                  <a:lnTo>
                    <a:pt x="63" y="34"/>
                  </a:lnTo>
                  <a:lnTo>
                    <a:pt x="76" y="37"/>
                  </a:lnTo>
                  <a:lnTo>
                    <a:pt x="88" y="35"/>
                  </a:lnTo>
                  <a:lnTo>
                    <a:pt x="101" y="34"/>
                  </a:lnTo>
                  <a:lnTo>
                    <a:pt x="114" y="39"/>
                  </a:lnTo>
                  <a:lnTo>
                    <a:pt x="126" y="31"/>
                  </a:lnTo>
                  <a:lnTo>
                    <a:pt x="139" y="30"/>
                  </a:lnTo>
                  <a:lnTo>
                    <a:pt x="151" y="32"/>
                  </a:lnTo>
                  <a:lnTo>
                    <a:pt x="164" y="33"/>
                  </a:lnTo>
                  <a:lnTo>
                    <a:pt x="177" y="27"/>
                  </a:lnTo>
                  <a:lnTo>
                    <a:pt x="189" y="26"/>
                  </a:lnTo>
                  <a:lnTo>
                    <a:pt x="202" y="26"/>
                  </a:lnTo>
                  <a:lnTo>
                    <a:pt x="214" y="31"/>
                  </a:lnTo>
                  <a:lnTo>
                    <a:pt x="227" y="31"/>
                  </a:lnTo>
                  <a:lnTo>
                    <a:pt x="240" y="23"/>
                  </a:lnTo>
                  <a:lnTo>
                    <a:pt x="252" y="25"/>
                  </a:lnTo>
                  <a:lnTo>
                    <a:pt x="265" y="37"/>
                  </a:lnTo>
                  <a:lnTo>
                    <a:pt x="277" y="37"/>
                  </a:lnTo>
                  <a:lnTo>
                    <a:pt x="290" y="36"/>
                  </a:lnTo>
                  <a:lnTo>
                    <a:pt x="303" y="41"/>
                  </a:lnTo>
                  <a:lnTo>
                    <a:pt x="315" y="41"/>
                  </a:lnTo>
                  <a:lnTo>
                    <a:pt x="328" y="38"/>
                  </a:lnTo>
                  <a:lnTo>
                    <a:pt x="340" y="33"/>
                  </a:lnTo>
                  <a:lnTo>
                    <a:pt x="353" y="11"/>
                  </a:lnTo>
                  <a:lnTo>
                    <a:pt x="366" y="0"/>
                  </a:lnTo>
                  <a:lnTo>
                    <a:pt x="378" y="8"/>
                  </a:lnTo>
                  <a:lnTo>
                    <a:pt x="391" y="17"/>
                  </a:lnTo>
                  <a:lnTo>
                    <a:pt x="403" y="22"/>
                  </a:lnTo>
                  <a:lnTo>
                    <a:pt x="416" y="25"/>
                  </a:lnTo>
                  <a:lnTo>
                    <a:pt x="429" y="16"/>
                  </a:lnTo>
                  <a:lnTo>
                    <a:pt x="441" y="14"/>
                  </a:lnTo>
                  <a:lnTo>
                    <a:pt x="454" y="14"/>
                  </a:lnTo>
                </a:path>
              </a:pathLst>
            </a:cu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69880" y="3923280"/>
              <a:ext cx="79200" cy="88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3894840"/>
              <a:ext cx="79200" cy="86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96760" y="3778200"/>
              <a:ext cx="79560" cy="8676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8480" y="370620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38040" y="3428280"/>
              <a:ext cx="78120" cy="885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0"/>
                  </a:moveTo>
                  <a:lnTo>
                    <a:pt x="49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95360" y="3326040"/>
              <a:ext cx="77760" cy="88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0"/>
                  </a:moveTo>
                  <a:lnTo>
                    <a:pt x="49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65280" y="3369960"/>
              <a:ext cx="7920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2240" y="334152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792160" y="3326040"/>
              <a:ext cx="7956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3880" y="340020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19400" y="3180960"/>
              <a:ext cx="7920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90760" y="3150720"/>
              <a:ext cx="77760" cy="88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4" y="0"/>
                  </a:moveTo>
                  <a:lnTo>
                    <a:pt x="49" y="25"/>
                  </a:lnTo>
                  <a:lnTo>
                    <a:pt x="24" y="50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47720" y="3094200"/>
              <a:ext cx="7812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17640" y="309420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560" y="293328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44880" y="2903400"/>
              <a:ext cx="7920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2918880"/>
              <a:ext cx="7920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71760" y="305028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43120" y="305028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5"/>
                  </a:lnTo>
                  <a:lnTo>
                    <a:pt x="24" y="49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13040" y="287496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70360" y="306396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40280" y="3530880"/>
              <a:ext cx="7920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97240" y="351684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67160" y="3486600"/>
              <a:ext cx="7956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38520" y="345816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95840" y="345816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65760" y="3326040"/>
              <a:ext cx="77760" cy="88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0"/>
                  </a:moveTo>
                  <a:lnTo>
                    <a:pt x="49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2720" y="305028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2640" y="210240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62560" y="1591560"/>
              <a:ext cx="7920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19520" y="2058120"/>
              <a:ext cx="7956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89440" y="243828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46760" y="2786760"/>
              <a:ext cx="7920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18120" y="291888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0"/>
                  </a:moveTo>
                  <a:lnTo>
                    <a:pt x="49" y="24"/>
                  </a:lnTo>
                  <a:lnTo>
                    <a:pt x="24" y="49"/>
                  </a:lnTo>
                  <a:lnTo>
                    <a:pt x="0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88040" y="2539080"/>
              <a:ext cx="77760" cy="885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25" y="0"/>
                  </a:moveTo>
                  <a:lnTo>
                    <a:pt x="49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45360" y="2321640"/>
              <a:ext cx="77760" cy="86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0"/>
                  </a:moveTo>
                  <a:lnTo>
                    <a:pt x="49" y="24"/>
                  </a:lnTo>
                  <a:lnTo>
                    <a:pt x="25" y="49"/>
                  </a:lnTo>
                  <a:lnTo>
                    <a:pt x="0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414920" y="2277360"/>
              <a:ext cx="79560" cy="86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5" y="0"/>
                  </a:moveTo>
                  <a:lnTo>
                    <a:pt x="50" y="25"/>
                  </a:lnTo>
                  <a:lnTo>
                    <a:pt x="25" y="4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69880" y="5410440"/>
              <a:ext cx="7920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39800" y="5440680"/>
              <a:ext cx="7920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6760" y="539604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68480" y="542448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38040" y="5351760"/>
              <a:ext cx="7812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95360" y="5351760"/>
              <a:ext cx="777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65280" y="5396040"/>
              <a:ext cx="7920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22240" y="5365800"/>
              <a:ext cx="795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92160" y="5351760"/>
              <a:ext cx="795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63880" y="542448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19400" y="5307840"/>
              <a:ext cx="7920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0760" y="529380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7720" y="5323680"/>
              <a:ext cx="7812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17640" y="533772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87560" y="525132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44880" y="5235120"/>
              <a:ext cx="7920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14800" y="5235120"/>
              <a:ext cx="7920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71760" y="5307840"/>
              <a:ext cx="795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43120" y="530784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13040" y="519264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70360" y="522108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40280" y="5396040"/>
              <a:ext cx="7920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97240" y="539604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67160" y="538200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38520" y="545472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95840" y="545472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65760" y="5410440"/>
              <a:ext cx="777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22720" y="533772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92640" y="501804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62560" y="4856760"/>
              <a:ext cx="7920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19520" y="497340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89440" y="5104440"/>
              <a:ext cx="7956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46760" y="5177160"/>
              <a:ext cx="79200" cy="882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8120" y="5221080"/>
              <a:ext cx="777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8040" y="5090040"/>
              <a:ext cx="77760" cy="867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45360" y="5060160"/>
              <a:ext cx="777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14920" y="5060160"/>
              <a:ext cx="7956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22240" y="762120"/>
              <a:ext cx="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08120" y="1067760"/>
              <a:ext cx="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23120" y="5571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91000" y="50601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91000" y="45507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91000" y="403992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91000" y="35308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91000" y="30056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91000" y="24962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91000" y="19857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91000" y="14763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,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000000">
              <a:off x="116964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6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000000">
              <a:off x="199368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8000000">
              <a:off x="281916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8000000">
              <a:off x="364464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468320" y="5948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000000">
              <a:off x="5293800" y="5948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000000">
              <a:off x="611964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000000">
              <a:off x="6943320" y="59486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11720" y="634392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164160" y="378936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rtalità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-375120" y="3763080"/>
              <a:ext cx="216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decessi per 100.000 abitant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89600" y="3675960"/>
              <a:ext cx="1166760" cy="627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56200" y="3850920"/>
              <a:ext cx="35244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86520" y="3806640"/>
              <a:ext cx="79560" cy="88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5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49320" y="372024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omi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56200" y="4156560"/>
              <a:ext cx="352440" cy="18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86520" y="4114080"/>
              <a:ext cx="79560" cy="8640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49320" y="4025880"/>
              <a:ext cx="48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n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371600"/>
            <a:ext cx="0" cy="4876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12000" y="152388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0" y="1006560"/>
            <a:ext cx="8704800" cy="5851800"/>
            <a:chOff x="0" y="1006560"/>
            <a:chExt cx="8704800" cy="5851800"/>
          </a:xfrm>
        </p:grpSpPr>
        <p:sp>
          <p:nvSpPr>
            <p:cNvPr id="459" name=""/>
            <p:cNvSpPr/>
            <p:nvPr/>
          </p:nvSpPr>
          <p:spPr>
            <a:xfrm>
              <a:off x="952560" y="1119240"/>
              <a:ext cx="7646760" cy="438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52560" y="495324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52560" y="440712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52560" y="3862440"/>
              <a:ext cx="764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52560" y="3316320"/>
              <a:ext cx="764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52560" y="275616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2560" y="221004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52560" y="166392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52560" y="1119240"/>
              <a:ext cx="764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52560" y="1119240"/>
              <a:ext cx="7646760" cy="4380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22400" y="4127760"/>
              <a:ext cx="280800" cy="1371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24040" y="1846440"/>
              <a:ext cx="279360" cy="3652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09840" y="3035520"/>
              <a:ext cx="279360" cy="24638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09680" y="3316320"/>
              <a:ext cx="279360" cy="21830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9880" y="3176640"/>
              <a:ext cx="279360" cy="23227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95680" y="2224440"/>
              <a:ext cx="279360" cy="327492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95880" y="1733760"/>
              <a:ext cx="280800" cy="37656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81680" y="1651320"/>
              <a:ext cx="280800" cy="384804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81520" y="2055960"/>
              <a:ext cx="281160" cy="34434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81720" y="2727360"/>
              <a:ext cx="281160" cy="277200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68960" y="3834000"/>
              <a:ext cx="279720" cy="166536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03200" y="3679920"/>
              <a:ext cx="279360" cy="18194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03400" y="3441960"/>
              <a:ext cx="266760" cy="2057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89200" y="3316320"/>
              <a:ext cx="280800" cy="21830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9040" y="2965680"/>
              <a:ext cx="281160" cy="2533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89240" y="3764160"/>
              <a:ext cx="266760" cy="17352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75040" y="3610080"/>
              <a:ext cx="281160" cy="18892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76680" y="3540240"/>
              <a:ext cx="265320" cy="19591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62480" y="3554640"/>
              <a:ext cx="279360" cy="1944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862680" y="3063960"/>
              <a:ext cx="279360" cy="243540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62880" y="4029120"/>
              <a:ext cx="264960" cy="14702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48680" y="4394520"/>
              <a:ext cx="279360" cy="110484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52560" y="1119240"/>
              <a:ext cx="1440" cy="438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96760" y="549936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96760" y="495324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96760" y="44071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96760" y="386244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96760" y="331632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96760" y="275616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96760" y="221004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96760" y="16639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6760" y="111924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52560" y="5499360"/>
              <a:ext cx="764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95256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165240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34000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303984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74004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42584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12604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81184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51168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211880" y="54993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89912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8599320" y="54993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0160" y="5388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3680" y="48420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3680" y="4295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3680" y="37497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3680" y="320364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3680" y="264492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3680" y="20988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3680" y="15526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3680" y="10065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072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-1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76652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-2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6636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5-2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6656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0-3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5236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5-3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5256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-4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240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5-4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4000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-5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4020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5-5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4004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-6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25840" y="5653440"/>
              <a:ext cx="42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5-69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8000" y="5961240"/>
              <a:ext cx="9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assi di e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-1720800" y="3170160"/>
              <a:ext cx="365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IAumento della mortalità standardizata per e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6200000">
              <a:off x="-182520" y="3032280"/>
              <a:ext cx="105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percentua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87680" y="1216080"/>
              <a:ext cx="1833480" cy="392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00360" y="1355760"/>
              <a:ext cx="111240" cy="112680"/>
            </a:xfrm>
            <a:prstGeom prst="rect">
              <a:avLst/>
            </a:prstGeom>
            <a:solidFill>
              <a:srgbClr val="99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53720" y="1285920"/>
              <a:ext cx="55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om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11440" y="1355760"/>
              <a:ext cx="112680" cy="11268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64440" y="128592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n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9520" y="6255000"/>
              <a:ext cx="47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nte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1480" y="6255000"/>
              <a:ext cx="387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nnuario Statistico della Russia: Manuale Statistico 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53920" y="6255000"/>
              <a:ext cx="299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Comitato di Stato della Federazione Ru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2320" y="6464520"/>
              <a:ext cx="493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Sulla Statistica (Goskomstat of Russia), Mosca, 2002, Tab. 2.6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06040" y="6464520"/>
              <a:ext cx="175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nnuario Statistico Rus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2240" y="6453360"/>
              <a:ext cx="1582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, Comitatodi Stato del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7640" y="6675480"/>
              <a:ext cx="6226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ederatione Russa Sulla Statistica (Goskomstat Russia), Mosca, 1997, Tab. 2.17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2352600" y="3618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USSIA: aumento della mortalità, dal 1970-71 al 2001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80880" y="1143000"/>
            <a:ext cx="8376480" cy="5061600"/>
            <a:chOff x="380880" y="1143000"/>
            <a:chExt cx="8376480" cy="5061600"/>
          </a:xfrm>
        </p:grpSpPr>
        <p:sp>
          <p:nvSpPr>
            <p:cNvPr id="552" name=""/>
            <p:cNvSpPr/>
            <p:nvPr/>
          </p:nvSpPr>
          <p:spPr>
            <a:xfrm>
              <a:off x="7585200" y="3490920"/>
              <a:ext cx="1171440" cy="566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380880" y="1143000"/>
              <a:ext cx="8376480" cy="5061600"/>
              <a:chOff x="380880" y="1143000"/>
              <a:chExt cx="8376480" cy="5061600"/>
            </a:xfrm>
          </p:grpSpPr>
          <p:sp>
            <p:nvSpPr>
              <p:cNvPr id="554" name=""/>
              <p:cNvSpPr/>
              <p:nvPr/>
            </p:nvSpPr>
            <p:spPr>
              <a:xfrm>
                <a:off x="1434960" y="1633320"/>
                <a:ext cx="6164280" cy="3765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434960" y="492444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34960" y="446400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34960" y="3989160"/>
                <a:ext cx="616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34960" y="351612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34960" y="304164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34960" y="258120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34960" y="210816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34960" y="1633320"/>
                <a:ext cx="616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34960" y="1633320"/>
                <a:ext cx="6164280" cy="3765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34960" y="1633320"/>
                <a:ext cx="1800" cy="376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82760" y="539892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82760" y="492444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82760" y="446400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82760" y="3989160"/>
                <a:ext cx="52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82760" y="351612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82760" y="304164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82760" y="258120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82760" y="2108160"/>
                <a:ext cx="522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82760" y="1633320"/>
                <a:ext cx="52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34960" y="5398920"/>
                <a:ext cx="616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43496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066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654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193500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21067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22654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4368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260820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27655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29368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309420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326556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34369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35956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376704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93696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40957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426708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43880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59576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476712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9388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09580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26716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4388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5976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76756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9389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60976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26904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642636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659772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676908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692640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7097760" y="5398920"/>
                <a:ext cx="144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726912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742788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7599240" y="5398920"/>
                <a:ext cx="1800" cy="52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514520" y="1844640"/>
                <a:ext cx="6005520" cy="2382840"/>
              </a:xfrm>
              <a:custGeom>
                <a:avLst/>
                <a:gdLst/>
                <a:ahLst/>
                <a:rect l="l" t="t" r="r" b="b"/>
                <a:pathLst>
                  <a:path w="456" h="181">
                    <a:moveTo>
                      <a:pt x="0" y="181"/>
                    </a:moveTo>
                    <a:lnTo>
                      <a:pt x="13" y="179"/>
                    </a:lnTo>
                    <a:lnTo>
                      <a:pt x="26" y="171"/>
                    </a:lnTo>
                    <a:lnTo>
                      <a:pt x="38" y="162"/>
                    </a:lnTo>
                    <a:lnTo>
                      <a:pt x="51" y="138"/>
                    </a:lnTo>
                    <a:lnTo>
                      <a:pt x="64" y="124"/>
                    </a:lnTo>
                    <a:lnTo>
                      <a:pt x="76" y="121"/>
                    </a:lnTo>
                    <a:lnTo>
                      <a:pt x="89" y="115"/>
                    </a:lnTo>
                    <a:lnTo>
                      <a:pt x="102" y="113"/>
                    </a:lnTo>
                    <a:lnTo>
                      <a:pt x="114" y="119"/>
                    </a:lnTo>
                    <a:lnTo>
                      <a:pt x="127" y="100"/>
                    </a:lnTo>
                    <a:lnTo>
                      <a:pt x="139" y="101"/>
                    </a:lnTo>
                    <a:lnTo>
                      <a:pt x="152" y="95"/>
                    </a:lnTo>
                    <a:lnTo>
                      <a:pt x="165" y="90"/>
                    </a:lnTo>
                    <a:lnTo>
                      <a:pt x="177" y="77"/>
                    </a:lnTo>
                    <a:lnTo>
                      <a:pt x="190" y="75"/>
                    </a:lnTo>
                    <a:lnTo>
                      <a:pt x="203" y="77"/>
                    </a:lnTo>
                    <a:lnTo>
                      <a:pt x="215" y="84"/>
                    </a:lnTo>
                    <a:lnTo>
                      <a:pt x="228" y="80"/>
                    </a:lnTo>
                    <a:lnTo>
                      <a:pt x="241" y="65"/>
                    </a:lnTo>
                    <a:lnTo>
                      <a:pt x="253" y="73"/>
                    </a:lnTo>
                    <a:lnTo>
                      <a:pt x="266" y="99"/>
                    </a:lnTo>
                    <a:lnTo>
                      <a:pt x="279" y="97"/>
                    </a:lnTo>
                    <a:lnTo>
                      <a:pt x="291" y="99"/>
                    </a:lnTo>
                    <a:lnTo>
                      <a:pt x="304" y="107"/>
                    </a:lnTo>
                    <a:lnTo>
                      <a:pt x="317" y="114"/>
                    </a:lnTo>
                    <a:lnTo>
                      <a:pt x="329" y="107"/>
                    </a:lnTo>
                    <a:lnTo>
                      <a:pt x="342" y="98"/>
                    </a:lnTo>
                    <a:lnTo>
                      <a:pt x="354" y="36"/>
                    </a:lnTo>
                    <a:lnTo>
                      <a:pt x="367" y="0"/>
                    </a:lnTo>
                    <a:lnTo>
                      <a:pt x="380" y="37"/>
                    </a:lnTo>
                    <a:lnTo>
                      <a:pt x="392" y="59"/>
                    </a:lnTo>
                    <a:lnTo>
                      <a:pt x="405" y="73"/>
                    </a:lnTo>
                    <a:lnTo>
                      <a:pt x="418" y="79"/>
                    </a:lnTo>
                    <a:lnTo>
                      <a:pt x="430" y="52"/>
                    </a:lnTo>
                    <a:lnTo>
                      <a:pt x="443" y="35"/>
                    </a:lnTo>
                    <a:lnTo>
                      <a:pt x="456" y="3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514520" y="4120920"/>
                <a:ext cx="6005520" cy="830160"/>
              </a:xfrm>
              <a:custGeom>
                <a:avLst/>
                <a:gdLst/>
                <a:ahLst/>
                <a:rect l="l" t="t" r="r" b="b"/>
                <a:pathLst>
                  <a:path w="456" h="63">
                    <a:moveTo>
                      <a:pt x="0" y="60"/>
                    </a:moveTo>
                    <a:lnTo>
                      <a:pt x="13" y="63"/>
                    </a:lnTo>
                    <a:lnTo>
                      <a:pt x="26" y="56"/>
                    </a:lnTo>
                    <a:lnTo>
                      <a:pt x="38" y="57"/>
                    </a:lnTo>
                    <a:lnTo>
                      <a:pt x="51" y="48"/>
                    </a:lnTo>
                    <a:lnTo>
                      <a:pt x="64" y="45"/>
                    </a:lnTo>
                    <a:lnTo>
                      <a:pt x="76" y="45"/>
                    </a:lnTo>
                    <a:lnTo>
                      <a:pt x="89" y="41"/>
                    </a:lnTo>
                    <a:lnTo>
                      <a:pt x="102" y="38"/>
                    </a:lnTo>
                    <a:lnTo>
                      <a:pt x="114" y="47"/>
                    </a:lnTo>
                    <a:lnTo>
                      <a:pt x="127" y="35"/>
                    </a:lnTo>
                    <a:lnTo>
                      <a:pt x="139" y="32"/>
                    </a:lnTo>
                    <a:lnTo>
                      <a:pt x="152" y="33"/>
                    </a:lnTo>
                    <a:lnTo>
                      <a:pt x="165" y="34"/>
                    </a:lnTo>
                    <a:lnTo>
                      <a:pt x="177" y="24"/>
                    </a:lnTo>
                    <a:lnTo>
                      <a:pt x="190" y="22"/>
                    </a:lnTo>
                    <a:lnTo>
                      <a:pt x="203" y="22"/>
                    </a:lnTo>
                    <a:lnTo>
                      <a:pt x="215" y="28"/>
                    </a:lnTo>
                    <a:lnTo>
                      <a:pt x="228" y="26"/>
                    </a:lnTo>
                    <a:lnTo>
                      <a:pt x="241" y="13"/>
                    </a:lnTo>
                    <a:lnTo>
                      <a:pt x="253" y="13"/>
                    </a:lnTo>
                    <a:lnTo>
                      <a:pt x="266" y="30"/>
                    </a:lnTo>
                    <a:lnTo>
                      <a:pt x="279" y="28"/>
                    </a:lnTo>
                    <a:lnTo>
                      <a:pt x="291" y="28"/>
                    </a:lnTo>
                    <a:lnTo>
                      <a:pt x="304" y="39"/>
                    </a:lnTo>
                    <a:lnTo>
                      <a:pt x="317" y="44"/>
                    </a:lnTo>
                    <a:lnTo>
                      <a:pt x="329" y="44"/>
                    </a:lnTo>
                    <a:lnTo>
                      <a:pt x="342" y="41"/>
                    </a:lnTo>
                    <a:lnTo>
                      <a:pt x="354" y="14"/>
                    </a:lnTo>
                    <a:lnTo>
                      <a:pt x="367" y="0"/>
                    </a:lnTo>
                    <a:lnTo>
                      <a:pt x="380" y="14"/>
                    </a:lnTo>
                    <a:lnTo>
                      <a:pt x="392" y="23"/>
                    </a:lnTo>
                    <a:lnTo>
                      <a:pt x="405" y="26"/>
                    </a:lnTo>
                    <a:lnTo>
                      <a:pt x="418" y="31"/>
                    </a:lnTo>
                    <a:lnTo>
                      <a:pt x="430" y="18"/>
                    </a:lnTo>
                    <a:lnTo>
                      <a:pt x="443" y="15"/>
                    </a:lnTo>
                    <a:lnTo>
                      <a:pt x="456" y="13"/>
                    </a:lnTo>
                  </a:path>
                </a:pathLst>
              </a:custGeom>
              <a:noFill/>
              <a:ln w="1260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74920" y="4187520"/>
                <a:ext cx="7920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25" y="0"/>
                    </a:moveTo>
                    <a:lnTo>
                      <a:pt x="50" y="25"/>
                    </a:lnTo>
                    <a:lnTo>
                      <a:pt x="25" y="4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46280" y="416052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17640" y="405576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974960" y="39369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46320" y="362088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317680" y="34369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76440" y="339696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49" y="25"/>
                    </a:lnTo>
                    <a:lnTo>
                      <a:pt x="24" y="50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646360" y="331776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17720" y="329220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76480" y="337176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25" y="0"/>
                    </a:moveTo>
                    <a:lnTo>
                      <a:pt x="50" y="25"/>
                    </a:lnTo>
                    <a:lnTo>
                      <a:pt x="25" y="4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147840" y="3120840"/>
                <a:ext cx="78120" cy="795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05160" y="31334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76520" y="305568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25" y="0"/>
                    </a:moveTo>
                    <a:lnTo>
                      <a:pt x="50" y="25"/>
                    </a:lnTo>
                    <a:lnTo>
                      <a:pt x="25" y="4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48240" y="298908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805200" y="28177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76560" y="279216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148280" y="281772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07040" y="290988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476600" y="285732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48320" y="266040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807080" y="2765160"/>
                <a:ext cx="7920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978440" y="310824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149800" y="308124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49" y="25"/>
                    </a:lnTo>
                    <a:lnTo>
                      <a:pt x="24" y="50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307120" y="310824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78480" y="321300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49840" y="330516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07160" y="321300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978520" y="3095640"/>
                <a:ext cx="79560" cy="777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25" y="0"/>
                    </a:moveTo>
                    <a:lnTo>
                      <a:pt x="50" y="24"/>
                    </a:lnTo>
                    <a:lnTo>
                      <a:pt x="25" y="49"/>
                    </a:lnTo>
                    <a:lnTo>
                      <a:pt x="0" y="2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37280" y="227808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08640" y="180468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49" y="25"/>
                    </a:lnTo>
                    <a:lnTo>
                      <a:pt x="24" y="50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78560" y="229212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637320" y="258120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08680" y="276516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80400" y="2844720"/>
                <a:ext cx="77760" cy="7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5" y="0"/>
                    </a:moveTo>
                    <a:lnTo>
                      <a:pt x="49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37360" y="248904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308720" y="226512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480440" y="221292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474920" y="4871880"/>
                <a:ext cx="7920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46280" y="4911480"/>
                <a:ext cx="7920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17640" y="4819320"/>
                <a:ext cx="79560" cy="78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974960" y="4832280"/>
                <a:ext cx="7920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46320" y="471312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317680" y="4674960"/>
                <a:ext cx="795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476440" y="4674960"/>
                <a:ext cx="777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46360" y="462096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17720" y="4581360"/>
                <a:ext cx="795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76480" y="4700520"/>
                <a:ext cx="795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47840" y="4543200"/>
                <a:ext cx="7812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05160" y="4503600"/>
                <a:ext cx="795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476520" y="451620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648240" y="452880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05200" y="439704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76560" y="4371840"/>
                <a:ext cx="795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48280" y="4371840"/>
                <a:ext cx="7920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7040" y="4451040"/>
                <a:ext cx="777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76600" y="442404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48320" y="425268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807080" y="425268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78440" y="4476600"/>
                <a:ext cx="777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149800" y="4451040"/>
                <a:ext cx="777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307120" y="4451040"/>
                <a:ext cx="7920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478480" y="4595760"/>
                <a:ext cx="7920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9840" y="466056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07160" y="466056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78520" y="462096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137280" y="4265280"/>
                <a:ext cx="777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308640" y="4081320"/>
                <a:ext cx="77760" cy="792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478560" y="426528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637320" y="438444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808680" y="442404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80400" y="4489200"/>
                <a:ext cx="777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137360" y="4319280"/>
                <a:ext cx="79560" cy="77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308720" y="427968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80440" y="4252680"/>
                <a:ext cx="7920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00360" y="1143000"/>
                <a:ext cx="3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024920" y="52927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24920" y="481932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24920" y="435924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24920" y="388440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24920" y="341136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24920" y="2936880"/>
                <a:ext cx="25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92800" y="247644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92800" y="200160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1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92800" y="1528560"/>
                <a:ext cx="38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,2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8000000">
                <a:off x="117576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000000">
                <a:off x="201888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000000">
                <a:off x="284760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8000000">
                <a:off x="367776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8000000">
                <a:off x="450648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8000000">
                <a:off x="534924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8000000">
                <a:off x="617976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8000000">
                <a:off x="7009920" y="561168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345560" y="5991120"/>
                <a:ext cx="416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200000">
                <a:off x="-605160" y="3609360"/>
                <a:ext cx="218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rtalità: Cause ex Cap. I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6200000">
                <a:off x="-554400" y="3348000"/>
                <a:ext cx="2532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(deaths per 100,000 population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808760" y="3647880"/>
                <a:ext cx="355680" cy="18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940520" y="360828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203320" y="35287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omin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08760" y="3924000"/>
                <a:ext cx="355680" cy="180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40520" y="3884400"/>
                <a:ext cx="79560" cy="79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202960" y="38052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nn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rtalità standardizzata per età, 1965-200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lattie cardiovascolar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61722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nnuario statistico della Russia: Manuale Statistico 2002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mitato di Stato della Federazione Russa sulla Statistica (Goskomstat Russia), Mosca, 2002, Tab. 6.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15000" y="1371600"/>
            <a:ext cx="0" cy="4876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883400" y="152388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"/>
          <p:cNvGrpSpPr/>
          <p:nvPr/>
        </p:nvGrpSpPr>
        <p:grpSpPr>
          <a:xfrm>
            <a:off x="1440" y="228600"/>
            <a:ext cx="8643960" cy="5864760"/>
            <a:chOff x="1440" y="228600"/>
            <a:chExt cx="8643960" cy="5864760"/>
          </a:xfrm>
        </p:grpSpPr>
        <p:sp>
          <p:nvSpPr>
            <p:cNvPr id="721" name=""/>
            <p:cNvSpPr/>
            <p:nvPr/>
          </p:nvSpPr>
          <p:spPr>
            <a:xfrm>
              <a:off x="925560" y="1033200"/>
              <a:ext cx="7718400" cy="417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25560" y="4372920"/>
              <a:ext cx="77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25560" y="3538440"/>
              <a:ext cx="77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25560" y="2703960"/>
              <a:ext cx="77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25560" y="1869840"/>
              <a:ext cx="77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25560" y="1033200"/>
              <a:ext cx="771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25560" y="1033200"/>
              <a:ext cx="7718400" cy="4174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25560" y="1033200"/>
              <a:ext cx="1440" cy="417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84160" y="520740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84160" y="47901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84160" y="43729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84160" y="3955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84160" y="353844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84160" y="31212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84160" y="270396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84160" y="22867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84160" y="18698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84160" y="145044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84160" y="103320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69760" y="520740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69760" y="43729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69760" y="353844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69760" y="270396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9760" y="186984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69760" y="1033200"/>
              <a:ext cx="55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25560" y="5207400"/>
              <a:ext cx="771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9255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112860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134604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494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17654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196992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17332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3907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259380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79720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30146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21768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343548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63852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84156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0593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426240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46544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6832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88628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510372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30712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55101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72760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593100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13404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35148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5488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677232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697536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1787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9620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59924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80264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802008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22312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8440560" y="5207040"/>
              <a:ext cx="180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8643960" y="5207040"/>
              <a:ext cx="1440" cy="6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33560" y="1391040"/>
              <a:ext cx="7502400" cy="2386440"/>
            </a:xfrm>
            <a:custGeom>
              <a:avLst/>
              <a:gdLst/>
              <a:ahLst/>
              <a:rect l="l" t="t" r="r" b="b"/>
              <a:pathLst>
                <a:path w="553" h="160">
                  <a:moveTo>
                    <a:pt x="0" y="155"/>
                  </a:moveTo>
                  <a:lnTo>
                    <a:pt x="15" y="149"/>
                  </a:lnTo>
                  <a:lnTo>
                    <a:pt x="30" y="144"/>
                  </a:lnTo>
                  <a:lnTo>
                    <a:pt x="46" y="135"/>
                  </a:lnTo>
                  <a:lnTo>
                    <a:pt x="61" y="127"/>
                  </a:lnTo>
                  <a:lnTo>
                    <a:pt x="77" y="122"/>
                  </a:lnTo>
                  <a:lnTo>
                    <a:pt x="92" y="121"/>
                  </a:lnTo>
                  <a:lnTo>
                    <a:pt x="107" y="123"/>
                  </a:lnTo>
                  <a:lnTo>
                    <a:pt x="123" y="125"/>
                  </a:lnTo>
                  <a:lnTo>
                    <a:pt x="138" y="116"/>
                  </a:lnTo>
                  <a:lnTo>
                    <a:pt x="153" y="111"/>
                  </a:lnTo>
                  <a:lnTo>
                    <a:pt x="169" y="106"/>
                  </a:lnTo>
                  <a:lnTo>
                    <a:pt x="184" y="98"/>
                  </a:lnTo>
                  <a:lnTo>
                    <a:pt x="200" y="99"/>
                  </a:lnTo>
                  <a:lnTo>
                    <a:pt x="215" y="94"/>
                  </a:lnTo>
                  <a:lnTo>
                    <a:pt x="230" y="91"/>
                  </a:lnTo>
                  <a:lnTo>
                    <a:pt x="246" y="90"/>
                  </a:lnTo>
                  <a:lnTo>
                    <a:pt x="261" y="98"/>
                  </a:lnTo>
                  <a:lnTo>
                    <a:pt x="277" y="102"/>
                  </a:lnTo>
                  <a:lnTo>
                    <a:pt x="292" y="97"/>
                  </a:lnTo>
                  <a:lnTo>
                    <a:pt x="307" y="122"/>
                  </a:lnTo>
                  <a:lnTo>
                    <a:pt x="323" y="158"/>
                  </a:lnTo>
                  <a:lnTo>
                    <a:pt x="338" y="160"/>
                  </a:lnTo>
                  <a:lnTo>
                    <a:pt x="353" y="149"/>
                  </a:lnTo>
                  <a:lnTo>
                    <a:pt x="369" y="133"/>
                  </a:lnTo>
                  <a:lnTo>
                    <a:pt x="384" y="126"/>
                  </a:lnTo>
                  <a:lnTo>
                    <a:pt x="400" y="120"/>
                  </a:lnTo>
                  <a:lnTo>
                    <a:pt x="415" y="92"/>
                  </a:lnTo>
                  <a:lnTo>
                    <a:pt x="430" y="27"/>
                  </a:lnTo>
                  <a:lnTo>
                    <a:pt x="446" y="0"/>
                  </a:lnTo>
                  <a:lnTo>
                    <a:pt x="461" y="35"/>
                  </a:lnTo>
                  <a:lnTo>
                    <a:pt x="476" y="50"/>
                  </a:lnTo>
                  <a:lnTo>
                    <a:pt x="492" y="80"/>
                  </a:lnTo>
                  <a:lnTo>
                    <a:pt x="507" y="83"/>
                  </a:lnTo>
                  <a:lnTo>
                    <a:pt x="523" y="65"/>
                  </a:lnTo>
                  <a:lnTo>
                    <a:pt x="538" y="54"/>
                  </a:lnTo>
                  <a:lnTo>
                    <a:pt x="553" y="46"/>
                  </a:lnTo>
                </a:path>
              </a:pathLst>
            </a:custGeom>
            <a:noFill/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33560" y="4372920"/>
              <a:ext cx="7502400" cy="492480"/>
            </a:xfrm>
            <a:custGeom>
              <a:avLst/>
              <a:gdLst/>
              <a:ahLst/>
              <a:rect l="l" t="t" r="r" b="b"/>
              <a:pathLst>
                <a:path w="553" h="33">
                  <a:moveTo>
                    <a:pt x="0" y="33"/>
                  </a:moveTo>
                  <a:lnTo>
                    <a:pt x="15" y="31"/>
                  </a:lnTo>
                  <a:lnTo>
                    <a:pt x="30" y="31"/>
                  </a:lnTo>
                  <a:lnTo>
                    <a:pt x="46" y="30"/>
                  </a:lnTo>
                  <a:lnTo>
                    <a:pt x="61" y="28"/>
                  </a:lnTo>
                  <a:lnTo>
                    <a:pt x="77" y="27"/>
                  </a:lnTo>
                  <a:lnTo>
                    <a:pt x="92" y="27"/>
                  </a:lnTo>
                  <a:lnTo>
                    <a:pt x="107" y="26"/>
                  </a:lnTo>
                  <a:lnTo>
                    <a:pt x="123" y="26"/>
                  </a:lnTo>
                  <a:lnTo>
                    <a:pt x="138" y="24"/>
                  </a:lnTo>
                  <a:lnTo>
                    <a:pt x="153" y="23"/>
                  </a:lnTo>
                  <a:lnTo>
                    <a:pt x="169" y="21"/>
                  </a:lnTo>
                  <a:lnTo>
                    <a:pt x="184" y="20"/>
                  </a:lnTo>
                  <a:lnTo>
                    <a:pt x="200" y="19"/>
                  </a:lnTo>
                  <a:lnTo>
                    <a:pt x="215" y="19"/>
                  </a:lnTo>
                  <a:lnTo>
                    <a:pt x="230" y="18"/>
                  </a:lnTo>
                  <a:lnTo>
                    <a:pt x="246" y="19"/>
                  </a:lnTo>
                  <a:lnTo>
                    <a:pt x="261" y="20"/>
                  </a:lnTo>
                  <a:lnTo>
                    <a:pt x="277" y="20"/>
                  </a:lnTo>
                  <a:lnTo>
                    <a:pt x="292" y="19"/>
                  </a:lnTo>
                  <a:lnTo>
                    <a:pt x="307" y="22"/>
                  </a:lnTo>
                  <a:lnTo>
                    <a:pt x="323" y="29"/>
                  </a:lnTo>
                  <a:lnTo>
                    <a:pt x="338" y="30"/>
                  </a:lnTo>
                  <a:lnTo>
                    <a:pt x="353" y="28"/>
                  </a:lnTo>
                  <a:lnTo>
                    <a:pt x="369" y="26"/>
                  </a:lnTo>
                  <a:lnTo>
                    <a:pt x="384" y="25"/>
                  </a:lnTo>
                  <a:lnTo>
                    <a:pt x="400" y="23"/>
                  </a:lnTo>
                  <a:lnTo>
                    <a:pt x="415" y="17"/>
                  </a:lnTo>
                  <a:lnTo>
                    <a:pt x="430" y="5"/>
                  </a:lnTo>
                  <a:lnTo>
                    <a:pt x="446" y="0"/>
                  </a:lnTo>
                  <a:lnTo>
                    <a:pt x="461" y="4"/>
                  </a:lnTo>
                  <a:lnTo>
                    <a:pt x="476" y="9"/>
                  </a:lnTo>
                  <a:lnTo>
                    <a:pt x="492" y="13"/>
                  </a:lnTo>
                  <a:lnTo>
                    <a:pt x="507" y="14"/>
                  </a:lnTo>
                  <a:lnTo>
                    <a:pt x="523" y="10"/>
                  </a:lnTo>
                  <a:lnTo>
                    <a:pt x="538" y="9"/>
                  </a:lnTo>
                  <a:lnTo>
                    <a:pt x="553" y="7"/>
                  </a:lnTo>
                </a:path>
              </a:pathLst>
            </a:custGeom>
            <a:noFill/>
            <a:ln w="144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992160" y="3657240"/>
              <a:ext cx="82440" cy="9036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97000" y="35683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400040" y="349344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16040" y="3360240"/>
              <a:ext cx="82440" cy="8892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0"/>
                  </a:moveTo>
                  <a:lnTo>
                    <a:pt x="52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20880" y="32400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36880" y="3165120"/>
              <a:ext cx="82440" cy="9036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41360" y="31510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444760" y="31806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60760" y="3210120"/>
              <a:ext cx="82440" cy="8892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0"/>
                  </a:moveTo>
                  <a:lnTo>
                    <a:pt x="52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65240" y="30762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68640" y="30024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86080" y="29275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89480" y="2808720"/>
              <a:ext cx="8064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706920" y="282276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09960" y="274788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13360" y="2703960"/>
              <a:ext cx="8064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30800" y="26884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533840" y="28087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51280" y="28681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54680" y="27928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57720" y="316512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0"/>
                  </a:moveTo>
                  <a:lnTo>
                    <a:pt x="51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75160" y="370260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6"/>
                  </a:lnTo>
                  <a:lnTo>
                    <a:pt x="25" y="51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578560" y="37324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81600" y="356832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99040" y="332892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02440" y="322596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19880" y="313560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22920" y="271836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0"/>
                  </a:moveTo>
                  <a:lnTo>
                    <a:pt x="51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26320" y="17488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6"/>
                  </a:lnTo>
                  <a:lnTo>
                    <a:pt x="26" y="51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043760" y="134748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5" y="0"/>
                  </a:moveTo>
                  <a:lnTo>
                    <a:pt x="51" y="25"/>
                  </a:lnTo>
                  <a:lnTo>
                    <a:pt x="25" y="51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46800" y="1869840"/>
              <a:ext cx="81000" cy="885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450200" y="209304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67640" y="254016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70680" y="2583720"/>
              <a:ext cx="81000" cy="9036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0"/>
                  </a:moveTo>
                  <a:lnTo>
                    <a:pt x="51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088120" y="231624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291520" y="2152440"/>
              <a:ext cx="81000" cy="8892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26" y="0"/>
                  </a:moveTo>
                  <a:lnTo>
                    <a:pt x="51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94560" y="2033640"/>
              <a:ext cx="82800" cy="8892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6" y="0"/>
                  </a:moveTo>
                  <a:lnTo>
                    <a:pt x="52" y="25"/>
                  </a:lnTo>
                  <a:lnTo>
                    <a:pt x="26" y="51"/>
                  </a:lnTo>
                  <a:lnTo>
                    <a:pt x="0" y="2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92160" y="4820040"/>
              <a:ext cx="8244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97000" y="4790160"/>
              <a:ext cx="810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00040" y="4790160"/>
              <a:ext cx="810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16040" y="4776480"/>
              <a:ext cx="8244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20880" y="474660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36880" y="4730760"/>
              <a:ext cx="8244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41360" y="47307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44760" y="471708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660760" y="4717080"/>
              <a:ext cx="8244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65240" y="468540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68640" y="46713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286080" y="46418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89480" y="4626000"/>
              <a:ext cx="8064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706920" y="461232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09960" y="461232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13360" y="4596840"/>
              <a:ext cx="80640" cy="88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330800" y="461232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33840" y="462600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751280" y="462600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954680" y="461232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57720" y="465552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75160" y="47606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78560" y="477648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81600" y="474660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999040" y="471708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02440" y="47012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19880" y="46713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22920" y="45824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26320" y="440280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3760" y="43293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46800" y="438876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50200" y="4462200"/>
              <a:ext cx="810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67640" y="45230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70680" y="4537440"/>
              <a:ext cx="81000" cy="885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88120" y="4478040"/>
              <a:ext cx="81000" cy="889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91520" y="4462200"/>
              <a:ext cx="810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494560" y="4432320"/>
              <a:ext cx="82800" cy="9036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03360" y="22860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092320" y="542880"/>
              <a:ext cx="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3000" y="5088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3280" y="42541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3280" y="3419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3280" y="25837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03280" y="1748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3280" y="914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18000000">
              <a:off x="67932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6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18000000">
              <a:off x="172404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8000000">
              <a:off x="275580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7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8000000">
              <a:off x="380196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8000000">
              <a:off x="484488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8000000">
              <a:off x="588960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8000000">
              <a:off x="693396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8000000">
              <a:off x="7978680" y="54615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01160" y="587988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16200000">
              <a:off x="-1403640" y="2921040"/>
              <a:ext cx="3009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asso di Mortalità: Cause ex capitolo XI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6200000">
              <a:off x="-763920" y="3233880"/>
              <a:ext cx="216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decessi per 100,000 abitant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22640" y="1227240"/>
              <a:ext cx="2563920" cy="43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98680" y="1436760"/>
              <a:ext cx="366840" cy="1440"/>
            </a:xfrm>
            <a:prstGeom prst="line">
              <a:avLst/>
            </a:prstGeom>
            <a:ln w="144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35480" y="1391040"/>
              <a:ext cx="80640" cy="9072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5" y="0"/>
                  </a:moveTo>
                  <a:lnTo>
                    <a:pt x="51" y="26"/>
                  </a:lnTo>
                  <a:lnTo>
                    <a:pt x="25" y="52"/>
                  </a:lnTo>
                  <a:lnTo>
                    <a:pt x="0" y="2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ff"/>
            </a:solidFill>
            <a:ln w="144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06200" y="1302120"/>
              <a:ext cx="55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omi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79840" y="1436760"/>
              <a:ext cx="365040" cy="1440"/>
            </a:xfrm>
            <a:prstGeom prst="line">
              <a:avLst/>
            </a:prstGeom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14840" y="1391040"/>
              <a:ext cx="81000" cy="90720"/>
            </a:xfrm>
            <a:prstGeom prst="rect">
              <a:avLst/>
            </a:prstGeom>
            <a:solidFill>
              <a:srgbClr val="993366"/>
            </a:solidFill>
            <a:ln w="144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85200" y="130212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n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rtalità standardizzata per età: Decessi per incidenti o lesioni, 1965-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603576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nnuario statistico della Russia: Manuale Statistico 2002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mitato di Stato della Federazione Russa sulla Statistica (Goskomstat Russia), Mosca, 2002, Tab. 6.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990720"/>
            <a:ext cx="0" cy="4876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07280" y="838080"/>
            <a:ext cx="79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22:55:28Z</dcterms:created>
  <dc:creator>***********</dc:creator>
  <dc:description/>
  <dc:language>en-US</dc:language>
  <cp:lastModifiedBy>***********</cp:lastModifiedBy>
  <dcterms:modified xsi:type="dcterms:W3CDTF">2004-05-22T12:22:26Z</dcterms:modified>
  <cp:revision>18</cp:revision>
  <dc:subject/>
  <dc:title>La crisi demografica dell’ est</dc:title>
</cp:coreProperties>
</file>